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AC6-0999-4454-9A8B-FCE81894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98F-CE1D-43D9-B74D-796CC30A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6B7-8DA3-46B2-A5FE-3D7A1C14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5F3-AD8D-445A-A0D7-7F656316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C94-6D7D-4604-86A1-99E028D3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17D-AFA0-442F-9D1E-3DAF794D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5D4-56FD-4030-9321-4ACE0F40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AEB-0152-4E24-90F6-2F288226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777-B23A-4647-947E-0C49A054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2F5-E8EE-41B5-A55E-A020BD7C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4D5-3D11-40E4-AADF-B60AE47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5FA-940D-4F7C-A693-2F976391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D1BE-5EBB-4223-B2D1-56ADAD2A1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4238640"/>
            <a:ext cx="34322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1097"/>
                </a:solidFill>
                <a:latin typeface="Arial"/>
              </a:rPr>
              <a:t>July 11-1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National Evolutionary Synthesis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Durham, North Carolina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http://gmod.org/GMOD_Summer_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10080"/>
            <a:ext cx="3886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rse is free but enrollment is limited.  To apply please submit a Statement of Interest, available from the GMOD web si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1612"/>
                </a:solidFill>
                <a:latin typeface="Arial"/>
              </a:rPr>
              <a:t>Applications will be reviewed starting on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28600"/>
            <a:ext cx="0" cy="6400800"/>
          </a:xfrm>
          <a:prstGeom prst="line">
            <a:avLst/>
          </a:prstGeom>
          <a:ln w="28440">
            <a:solidFill>
              <a:srgbClr val="c2c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800600" y="1495440"/>
          <a:ext cx="4038480" cy="4600440"/>
        </p:xfrm>
        <a:graphic>
          <a:graphicData uri="http://schemas.openxmlformats.org/drawingml/2006/table">
            <a:tbl>
              <a:tblPr/>
              <a:tblGrid>
                <a:gridCol w="228600"/>
                <a:gridCol w="609480"/>
                <a:gridCol w="1905120"/>
                <a:gridCol w="1295280"/>
              </a:tblGrid>
              <a:tr h="31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dc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80"/>
                    </a:solidFill>
                  </a:tcPr>
                </a:tc>
              </a:tr>
              <a:tr h="418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 Overvi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, 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s on Satu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d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o: The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’s database sche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o: Pract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rowse 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ic Genome Brows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30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rowse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me annotation edi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d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0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Fag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 map view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 Over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 and Dave C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4ac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Annotation Ser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r GMOD components all in one packag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e3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apup and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 and 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e3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4724280" y="615636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MOD is a set of interoperable open source software tools for visualizing, managing and annotating genomic data. If you need to manage genomic data, consider attending this cour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28600"/>
            <a:ext cx="4114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st annual GMOD Summer School is a 2 1/2 day hands-on workshop aimed at teaching new GMOD users how to get up and running with popular GMOD components. There will also be a concurrent 1 day session for principal investigators and decision makers that will give you a feel for what GMOD can do and what level of resources are needed to get a GMOD installation up and run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47280" y="121284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tativ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8:45:34Z</dcterms:created>
  <dc:creator>GMOD / NESCent</dc:creator>
  <dc:description/>
  <dc:language>en-US</dc:language>
  <cp:lastModifiedBy>GMOD / NESCent</cp:lastModifiedBy>
  <dcterms:modified xsi:type="dcterms:W3CDTF">2008-04-09T19:51:14Z</dcterms:modified>
  <cp:revision>5</cp:revision>
  <dc:subject/>
  <dc:title>PowerPoint Presentation</dc:title>
</cp:coreProperties>
</file>